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070D-AB70-4B93-9514-5895290D20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80D-8891-4151-8118-F449331DA8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783-7030-4D18-914C-7D3E612849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9C1D-05F6-4DC6-9547-C26117D2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3C9E-B232-4993-B306-B1BB0676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D839-2FD2-4A02-B5DE-2FFB13C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B951-7691-48B5-BE3A-CD1F3B34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B4FD-1854-4C4C-BBEF-DB8ED81F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AF58-95E6-4303-8847-FD69478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1C3-2598-414A-A701-8EC47CF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EA3-4794-4AF5-A7CF-44D6918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BA3-FC64-4152-98A4-3343331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05A-5F02-453B-AB9A-911FC10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F45-4CF4-4300-BDB6-52BBF3C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4C0F-755F-4858-A0A3-AE44043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2518-0D0C-46BC-BA5C-F0E643C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2D4-DFCA-4A2F-914F-7675CF3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B67-EF85-496E-A74C-C1A8CD9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6E9-32C3-44B0-8075-900CC7C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054-2758-42DC-8CBC-6CF1BE09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2C5A-8BB6-4466-AAF7-0B9EC4A3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4005-C2D7-4FE4-BCFC-997967C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ADCF-954A-4972-BC36-BB718F07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5206-272C-4E5F-874F-D576E9C9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C911-727F-4382-BFFC-88B0434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7957-BBE1-4916-ABB5-A32CF69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C817-C24E-4BEB-945B-F7CEC7D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EAD1-D374-4155-87C2-634D9572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861E-F6DB-4370-AB78-216D9A2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D2A9-EB05-4539-A15B-CABE762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D915-441B-433D-9446-ABB7A71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2BD5-43D0-40B8-9505-A0FDE014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BE50-78CE-4CF4-BEB4-2567AB94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E1A2-68BF-48E0-8CDF-F363345F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CAAC-C685-4B4E-8BAE-6539F4E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6CAE-9336-42A6-B6DA-7D5F4FD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00BD-48AB-4B8C-92FE-98BF94BB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C146-8C65-4CE0-B27F-52B6072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2DAB-1548-4DCA-A972-0174C3AB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2C43-875E-4739-9785-7E55695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E767-BCF4-44D8-9757-7C83D14A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1A71-038E-4BF0-8048-F1BDB37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4D36-C45D-46DA-AE1C-FA85271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F90B-1506-40AB-B5BE-A252E8D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3594-445F-4D03-90F7-BE3592D6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CA27-AB92-4DFE-933D-460032F9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CD71-D035-4D87-B54E-A77D7D8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A434-FF81-40D4-8D5B-DAEB79D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CED0-C812-4E75-B1EC-7BE5A07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7E19-97C0-40C9-8C2B-BFB72F1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03A7-6C89-4B93-9C7D-FF004E1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18F-1E4D-4A18-B837-1AD3A8F08E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35C7-3A79-4613-A289-881C1ECCBA6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зробила вчитель Сікора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9BF-F90E-411A-AF40-D7C68A2FC3DA}" type="datetime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5D6-7CAF-40E3-9298-32D5406439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45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93B0-FB66-4211-9ECD-0DACCF41041C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зробила вчитель Сікора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0B6-D4D8-469D-AC20-8BEA89A1FE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0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1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1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5D8D-BB88-469B-B649-AD4B9D6B8E09}" type="datetime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0B2B-8EE2-4D4C-9923-709C02B5E3F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33282-178x122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392360"/>
          </a:xfrm>
          <a:prstGeom prst="rect">
            <a:avLst/>
          </a:prstGeom>
          <a:ln w="0">
            <a:noFill/>
          </a:ln>
        </p:spPr>
      </p:pic>
      <p:sp>
        <p:nvSpPr>
          <p:cNvPr id="673" name="WordArt 5"/>
          <p:cNvSpPr txBox="1"/>
          <p:nvPr/>
        </p:nvSpPr>
        <p:spPr>
          <a:xfrm>
            <a:off x="684360" y="836640"/>
            <a:ext cx="640872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Олександр Довжен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  <p:sp>
        <p:nvSpPr>
          <p:cNvPr id="674" name="WordArt 6"/>
          <p:cNvSpPr txBox="1"/>
          <p:nvPr/>
        </p:nvSpPr>
        <p:spPr>
          <a:xfrm rot="5400000">
            <a:off x="5455800" y="3552840"/>
            <a:ext cx="4756320" cy="90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50000">
                      <a:srgbClr val="ff0000"/>
                    </a:gs>
                    <a:gs pos="100000">
                      <a:srgbClr val="ff66cc"/>
                    </a:gs>
                  </a:gsLst>
                  <a:lin ang="162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50000">
                    <a:srgbClr val="ff0000"/>
                  </a:gs>
                  <a:gs pos="100000">
                    <a:srgbClr val="ff66cc"/>
                  </a:gs>
                </a:gsLst>
                <a:lin ang="162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5" name="Нижний колонтитул 2"/>
          <p:cNvSpPr/>
          <p:nvPr/>
        </p:nvSpPr>
        <p:spPr>
          <a:xfrm>
            <a:off x="6229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Прямоугольник 1"/>
          <p:cNvSpPr/>
          <p:nvPr/>
        </p:nvSpPr>
        <p:spPr>
          <a:xfrm>
            <a:off x="179280" y="549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: «Силове поле кінематографа: знахідки, злети, тріумфи і трагедії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Прямоугольник 2"/>
          <p:cNvSpPr/>
          <p:nvPr/>
        </p:nvSpPr>
        <p:spPr>
          <a:xfrm>
            <a:off x="0" y="1197000"/>
            <a:ext cx="87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т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: проникнути у творчу лабораторію О. Довженка; осягнути світове значення художньої творчості митця; формувати пізнавальну, комунікативну, творчу компетентність учнів шляхом розвитку умінь працювати з додатковою літературою, висловлювати власні міркування про творчу спадщину митця, робити узагальнення й висновки; виховувати повагу до кращих представників української нації. Вміти розповідати про Довженка-кінорежисера, основні події його творчого житт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Нижний колонтитул 2"/>
          <p:cNvSpPr/>
          <p:nvPr/>
        </p:nvSpPr>
        <p:spPr>
          <a:xfrm>
            <a:off x="62341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Прямоугольник 1"/>
          <p:cNvSpPr/>
          <p:nvPr/>
        </p:nvSpPr>
        <p:spPr>
          <a:xfrm>
            <a:off x="611280" y="1125360"/>
            <a:ext cx="77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абуть, зустріч із живим Мікеланджело не справила              б враження більшого, ніж те, що зосталось після зустрічі з ним, автором «Землі» й «Арсеналу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. Гонч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Нижний колонтитул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http://toloka.hurtom.com/photos/0912211729241665_f0_0.png"/>
          <p:cNvPicPr/>
          <p:nvPr/>
        </p:nvPicPr>
        <p:blipFill>
          <a:blip r:embed="rId1"/>
          <a:stretch/>
        </p:blipFill>
        <p:spPr>
          <a:xfrm>
            <a:off x="11160" y="49320"/>
            <a:ext cx="4705200" cy="5324400"/>
          </a:xfrm>
          <a:prstGeom prst="rect">
            <a:avLst/>
          </a:prstGeom>
          <a:ln w="0">
            <a:noFill/>
          </a:ln>
        </p:spPr>
      </p:pic>
      <p:sp>
        <p:nvSpPr>
          <p:cNvPr id="682" name="Прямоугольник 1"/>
          <p:cNvSpPr/>
          <p:nvPr/>
        </p:nvSpPr>
        <p:spPr>
          <a:xfrm>
            <a:off x="1272960" y="60627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ка дипкур'єра (192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4" descr="&quot;Олександр Довженко. Творча Спадщина (1926-1992) 10хDVD9&quot; - Детали торрента :: Трекер 0day.kiev.ua"/>
          <p:cNvPicPr/>
          <p:nvPr/>
        </p:nvPicPr>
        <p:blipFill>
          <a:blip r:embed="rId2"/>
          <a:stretch/>
        </p:blipFill>
        <p:spPr>
          <a:xfrm>
            <a:off x="4452840" y="1523880"/>
            <a:ext cx="4681800" cy="5334120"/>
          </a:xfrm>
          <a:prstGeom prst="rect">
            <a:avLst/>
          </a:prstGeom>
          <a:ln w="0">
            <a:noFill/>
          </a:ln>
        </p:spPr>
      </p:pic>
      <p:sp>
        <p:nvSpPr>
          <p:cNvPr id="684" name="Нижний колонтитул 2"/>
          <p:cNvSpPr/>
          <p:nvPr/>
        </p:nvSpPr>
        <p:spPr>
          <a:xfrm>
            <a:off x="4788000" y="47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Николай Надемский - фотографии - советские актеры театра - Кино-Театр.РУ"/>
          <p:cNvPicPr/>
          <p:nvPr/>
        </p:nvPicPr>
        <p:blipFill>
          <a:blip r:embed="rId1"/>
          <a:stretch/>
        </p:blipFill>
        <p:spPr>
          <a:xfrm>
            <a:off x="144360" y="98280"/>
            <a:ext cx="4745160" cy="4626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&quot;Звенигора&quot; Олександра Довженка у НХМУ / Музейний простір. Музеї України та світу"/>
          <p:cNvPicPr/>
          <p:nvPr/>
        </p:nvPicPr>
        <p:blipFill>
          <a:blip r:embed="rId2"/>
          <a:stretch/>
        </p:blipFill>
        <p:spPr>
          <a:xfrm>
            <a:off x="4952880" y="98280"/>
            <a:ext cx="4200480" cy="635328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1"/>
          <p:cNvSpPr/>
          <p:nvPr/>
        </p:nvSpPr>
        <p:spPr>
          <a:xfrm>
            <a:off x="2133720" y="530064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енигора (192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Нижний колонтитул 2"/>
          <p:cNvSpPr/>
          <p:nvPr/>
        </p:nvSpPr>
        <p:spPr>
          <a:xfrm>
            <a:off x="3059280" y="64087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Земля (Олександр Довженко)"/>
          <p:cNvPicPr/>
          <p:nvPr/>
        </p:nvPicPr>
        <p:blipFill>
          <a:blip r:embed="rId1"/>
          <a:stretch/>
        </p:blipFill>
        <p:spPr>
          <a:xfrm>
            <a:off x="0" y="0"/>
            <a:ext cx="3809880" cy="5648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Земля - Кіно - Перший Ukraine"/>
          <p:cNvPicPr/>
          <p:nvPr/>
        </p:nvPicPr>
        <p:blipFill>
          <a:blip r:embed="rId2"/>
          <a:stretch/>
        </p:blipFill>
        <p:spPr>
          <a:xfrm>
            <a:off x="3995640" y="50760"/>
            <a:ext cx="5007240" cy="43815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0" descr="У цей день вийшов кінофільм Олександра Довженка &quot;Земля&quot; ILikeNews.com"/>
          <p:cNvPicPr/>
          <p:nvPr/>
        </p:nvPicPr>
        <p:blipFill>
          <a:blip r:embed="rId3"/>
          <a:stretch/>
        </p:blipFill>
        <p:spPr>
          <a:xfrm>
            <a:off x="4402080" y="4132440"/>
            <a:ext cx="4581720" cy="2700000"/>
          </a:xfrm>
          <a:prstGeom prst="rect">
            <a:avLst/>
          </a:prstGeom>
          <a:ln w="0">
            <a:noFill/>
          </a:ln>
        </p:spPr>
      </p:pic>
      <p:sp>
        <p:nvSpPr>
          <p:cNvPr id="692" name="Нижний колонтитул 2"/>
          <p:cNvSpPr/>
          <p:nvPr/>
        </p:nvSpPr>
        <p:spPr>
          <a:xfrm>
            <a:off x="1506600" y="648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Френдлента фотополигона"/>
          <p:cNvPicPr/>
          <p:nvPr/>
        </p:nvPicPr>
        <p:blipFill>
          <a:blip r:embed="rId1"/>
          <a:stretch/>
        </p:blipFill>
        <p:spPr>
          <a:xfrm>
            <a:off x="274680" y="100080"/>
            <a:ext cx="5521320" cy="5076720"/>
          </a:xfrm>
          <a:prstGeom prst="rect">
            <a:avLst/>
          </a:prstGeom>
          <a:ln w="0">
            <a:noFill/>
          </a:ln>
        </p:spPr>
      </p:pic>
      <p:sp>
        <p:nvSpPr>
          <p:cNvPr id="694" name="TextBox 1"/>
          <p:cNvSpPr/>
          <p:nvPr/>
        </p:nvSpPr>
        <p:spPr>
          <a:xfrm>
            <a:off x="1258920" y="587700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я, 19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Центр Довженко выпустил уникальный фотоальбом &quot;ЗЕМЛЯ: в кадре Бориса Косарева&quot;"/>
          <p:cNvPicPr/>
          <p:nvPr/>
        </p:nvPicPr>
        <p:blipFill>
          <a:blip r:embed="rId2"/>
          <a:stretch/>
        </p:blipFill>
        <p:spPr>
          <a:xfrm>
            <a:off x="5713560" y="0"/>
            <a:ext cx="37368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Нижний колонтитул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розробила вчитель Сікора Н.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4"/>
          <p:cNvSpPr/>
          <p:nvPr/>
        </p:nvSpPr>
        <p:spPr>
          <a:xfrm>
            <a:off x="3887640" y="667440"/>
            <a:ext cx="52563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“</a:t>
            </a: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Я хочу жити на Вкраїн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Щоб не було зі мн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Хай навіть скоротять мен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недовгі вже мої літ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я хочу жити на Вкраїн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Нехай зневага і з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людське вирують круг ме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Хай кличуть ме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ворогом народ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безсоромні й жорсток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службовці-людожер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якщо їм треба та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ccff"/>
                </a:solidFill>
                <a:latin typeface="Monotype Corsiva"/>
              </a:rPr>
              <a:t>Я України син, України”.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7" descr="image006"/>
          <p:cNvPicPr/>
          <p:nvPr/>
        </p:nvPicPr>
        <p:blipFill>
          <a:blip r:embed="rId1"/>
          <a:stretch/>
        </p:blipFill>
        <p:spPr>
          <a:xfrm>
            <a:off x="324000" y="590400"/>
            <a:ext cx="3924000" cy="5677200"/>
          </a:xfrm>
          <a:prstGeom prst="rect">
            <a:avLst/>
          </a:prstGeom>
          <a:ln w="0">
            <a:noFill/>
          </a:ln>
        </p:spPr>
      </p:pic>
      <p:sp>
        <p:nvSpPr>
          <p:cNvPr id="699" name="Нижний колонтитул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зробила вчитель Сікора Н.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24:11Z</dcterms:created>
  <dc:creator>vavan</dc:creator>
  <dc:description/>
  <dc:language>en-US</dc:language>
  <cp:lastModifiedBy>rghbn</cp:lastModifiedBy>
  <dcterms:modified xsi:type="dcterms:W3CDTF">2018-01-09T12:41:23Z</dcterms:modified>
  <cp:revision>15</cp:revision>
  <dc:subject/>
  <dc:title>Слайд 1</dc:title>
</cp:coreProperties>
</file>