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11A8-5B08-48F8-848B-668C621D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F02-0FC7-4C82-9D50-EEA22B98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67B6-CB01-4F5E-A5E2-F3CF7303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0A8-086B-492A-A6E3-72E56248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6DE1-607B-43AE-840A-3C24D0F3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7362-4A8F-490F-A883-224519FD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3F81-4A50-442A-9EF8-60A5B2C4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601B-54A9-4E20-A334-A2A8A7B3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8038-3CEB-441E-BD7F-00772400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D64B-72D3-463D-BDCC-FE20DAC6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46F2-7ED1-420B-B856-AE2BC240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00E8-67D0-4847-956D-6686FF93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0A8A-FB0E-444C-A627-842BC583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EC63-387E-4A8D-9A40-F82B3CE1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1A8C-6B8C-48CE-8532-F461463C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BDBA-FDC9-4FBF-8C31-B7049442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46D2-2035-45C8-A200-FCA52614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58B-DFA4-44C1-8AA4-0B7FA160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C7B2-3472-486A-8DCB-DB9DBF1F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F728-C3D6-4D05-B373-0B3642BD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E44-C2C4-4312-BB41-FA691225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0D6-BED0-4DE3-BCF1-09015EF0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4BDB-15C0-4E0A-91A9-828F078E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C8D6-58CB-48A0-B808-3CC9A5D2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D068-F277-479D-963E-158F58D0EC22}" type="slidenum">
              <a:rPr b="0" lang="uk-U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4E3F-9884-4882-B5C6-D2386488A3F7}" type="slidenum">
              <a:rPr b="0" lang="uk-U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7280" y="4652640"/>
            <a:ext cx="4486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Times New Roman"/>
              </a:rPr>
              <a:t>РІВНЯНН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920" y="692280"/>
            <a:ext cx="71280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99"/>
                </a:solidFill>
                <a:latin typeface="Comic Sans MS"/>
              </a:rPr>
              <a:t>Загадкове, нам знайоме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99"/>
                </a:solidFill>
                <a:latin typeface="Comic Sans MS"/>
              </a:rPr>
              <a:t>В ньому є щось невідоме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99"/>
                </a:solidFill>
                <a:latin typeface="Comic Sans MS"/>
              </a:rPr>
              <a:t>Його треба розв’язати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99"/>
                </a:solidFill>
                <a:latin typeface="Comic Sans MS"/>
              </a:rPr>
              <a:t>Тобто корінь відшукат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99"/>
                </a:solidFill>
                <a:latin typeface="Comic Sans MS"/>
              </a:rPr>
              <a:t>Кожен легко, без вагання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99"/>
                </a:solidFill>
                <a:latin typeface="Comic Sans MS"/>
              </a:rPr>
              <a:t>Відповість, що це</a:t>
            </a:r>
            <a:r>
              <a:rPr b="0" i="1" lang="uk-U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99"/>
                </a:solidFill>
                <a:latin typeface="Comic Sans MS"/>
              </a:rPr>
              <a:t>Перенесіть усі невідомі члени рівняння в ліву частину, а відомі в праву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050560" y="2636640"/>
            <a:ext cx="6256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а) 8х + 12 = х + 9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б)  -18y =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+ 12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2180160" y="611280"/>
            <a:ext cx="44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99"/>
                </a:solidFill>
                <a:latin typeface="Arial"/>
              </a:rPr>
              <a:t>Розв'яжіть рівнян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900000" y="1772280"/>
            <a:ext cx="33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а)  х – 12 = - 13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635280" y="2209320"/>
            <a:ext cx="33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б)  3х + 5 = 35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;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1693080" y="3715560"/>
            <a:ext cx="37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в)  5 – 4а = а + 20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3924720" y="479664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г)  8(х – 5) = 3х -40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"/>
          <p:cNvSpPr/>
          <p:nvPr/>
        </p:nvSpPr>
        <p:spPr>
          <a:xfrm>
            <a:off x="-509112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4" descr="khammed-ben-musa-al-khorezmi"/>
          <p:cNvPicPr/>
          <p:nvPr/>
        </p:nvPicPr>
        <p:blipFill>
          <a:blip r:embed="rId1"/>
          <a:stretch/>
        </p:blipFill>
        <p:spPr>
          <a:xfrm>
            <a:off x="34920" y="692280"/>
            <a:ext cx="3603600" cy="46800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6"/>
          <p:cNvSpPr/>
          <p:nvPr/>
        </p:nvSpPr>
        <p:spPr>
          <a:xfrm>
            <a:off x="3635280" y="45720"/>
            <a:ext cx="52927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Мухаммед аль- Хорезмі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Мухаммед із Хорезму)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Цю властивість він назвав словом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аль – джебр, яке означало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ідновлення. Справа в тому, що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ніше від’ємні числа вважалися несправжніми. Якщо ж від’ємне число шляхом перенесення його з однієї частини рівняння  в другу переходило з несправжнього  в справжнє, в цьому вбачали його відновлення. Назва книги, в якій уперше розглядалась ця властивість , починалася словом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Аль – джебр. Європейці, переклавши книгу латинською мовою, назвали її словом Algebr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сь так і з’явилась нова математична наука – алгебра, яку ми будемо вивчати  в 7 класі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280" y="907920"/>
            <a:ext cx="8137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Comic Sans MS"/>
              </a:rPr>
              <a:t>Визначте, правильним чи неправильним є твердження (правильні твердження позначте знаком   ∩, а неправильні – знаком __ 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Обидві частини  рівняння можна помножити або поділити на будь – яке числ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Будь – який доданок  рівняння можна  перенести з однієї частини в іншу, при цьому не змінивши знак на протилеж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Якщо обидві частини рівняння помножити  на одне й те саме число, відмінне від нуля, то дістанемо рівняння, яке має ті самі корені, що й дан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4. Якщо обидві частини рівняння  поділити на одне й те саме число, відмінне від нуля, то дістанемо рівняння, яке має ті самі корені, що й дан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5. Будь – який доданок можна перенести з однієї частини рівняння в іншу, змінивши його знак на протилеж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6. Основні властивості рівняння можн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застосовувати до розв’язування задач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2700360" y="189000"/>
            <a:ext cx="39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Графічний диктан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5724720" y="607932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__ __∩∩∩__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395280" y="119592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VII. Домашнє  завданн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§ 37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257 (а), №1261(б), №1263(б). – І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58(б), №1263(а), №1265(а).  – ІІ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Calibri"/>
              </a:rPr>
              <a:t>Рівняння. Основні властивості рівняння.</a:t>
            </a: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Comic Sans MS"/>
              </a:rPr>
              <a:t>Гра </a:t>
            </a:r>
            <a:r>
              <a:rPr b="1" i="1" lang="uk-UA" sz="4000" spc="-1" strike="noStrike">
                <a:solidFill>
                  <a:srgbClr val="000099"/>
                </a:solidFill>
                <a:latin typeface="Comic Sans MS"/>
              </a:rPr>
              <a:t>«Знайди помилку»</a:t>
            </a:r>
            <a:r>
              <a:rPr b="1" lang="uk-UA" sz="40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0" lang="uk-UA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884160"/>
                <a:gridCol w="6811920"/>
              </a:tblGrid>
              <a:tr h="91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х + 5х – 3х =    х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– 7с + 2с = 5    5с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 – (2 – а) = а – 2 + а = 2а – 2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∙ </a:t>
                      </a: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а – 6) = 8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40"/>
          <p:cNvSpPr/>
          <p:nvPr/>
        </p:nvSpPr>
        <p:spPr>
          <a:xfrm>
            <a:off x="4213080" y="198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41"/>
          <p:cNvSpPr/>
          <p:nvPr/>
        </p:nvSpPr>
        <p:spPr>
          <a:xfrm>
            <a:off x="4214520" y="1987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42"/>
          <p:cNvSpPr/>
          <p:nvPr/>
        </p:nvSpPr>
        <p:spPr>
          <a:xfrm>
            <a:off x="2751120" y="2157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43"/>
          <p:cNvSpPr/>
          <p:nvPr/>
        </p:nvSpPr>
        <p:spPr>
          <a:xfrm>
            <a:off x="4300920" y="289872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44"/>
          <p:cNvSpPr/>
          <p:nvPr/>
        </p:nvSpPr>
        <p:spPr>
          <a:xfrm>
            <a:off x="4343040" y="2881440"/>
            <a:ext cx="30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45"/>
          <p:cNvSpPr/>
          <p:nvPr/>
        </p:nvSpPr>
        <p:spPr>
          <a:xfrm>
            <a:off x="4502520" y="4710240"/>
            <a:ext cx="8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- 2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46"/>
          <p:cNvSpPr/>
          <p:nvPr/>
        </p:nvSpPr>
        <p:spPr>
          <a:xfrm>
            <a:off x="4503600" y="4724280"/>
            <a:ext cx="8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+ 4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99"/>
                </a:solidFill>
                <a:latin typeface="Comic Sans MS"/>
              </a:rPr>
              <a:t>Усний бліц – тест</a:t>
            </a: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1. Які серед наведених виразів є рівнянням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а) 3х + 4;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б) 5х + 4 = 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2. Що називають коренем (розв'язком)  рівнянн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 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значення невідомого, 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б) значення невідомого, при якому рівняння 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що є тільки додатни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перетворюється в 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число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правильну рівні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3. Що означає розв’язати рівнянн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 знайти всі його корені або 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б) знайти числ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показати що їх не існує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4. Яке число є коренем рівнянн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5х + 4 = 9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а) 5 ; 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б) 1;  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в) -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539640" y="1413000"/>
            <a:ext cx="1511280" cy="503280"/>
          </a:xfrm>
          <a:prstGeom prst="rect">
            <a:avLst/>
          </a:prstGeom>
          <a:solidFill>
            <a:srgbClr val="fff3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788000" y="2421000"/>
            <a:ext cx="3960720" cy="1439640"/>
          </a:xfrm>
          <a:prstGeom prst="rect">
            <a:avLst/>
          </a:prstGeom>
          <a:solidFill>
            <a:srgbClr val="fff3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4932360" y="4365720"/>
            <a:ext cx="2879640" cy="503280"/>
          </a:xfrm>
          <a:prstGeom prst="rect">
            <a:avLst/>
          </a:prstGeom>
          <a:solidFill>
            <a:srgbClr val="fff3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5651640" y="5950080"/>
            <a:ext cx="1368360" cy="503280"/>
          </a:xfrm>
          <a:prstGeom prst="rect">
            <a:avLst/>
          </a:prstGeom>
          <a:solidFill>
            <a:srgbClr val="fff3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2195640" y="6021360"/>
            <a:ext cx="1368360" cy="503280"/>
          </a:xfrm>
          <a:prstGeom prst="rect">
            <a:avLst/>
          </a:prstGeom>
          <a:solidFill>
            <a:srgbClr val="fff3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8"/>
          <p:cNvSpPr/>
          <p:nvPr/>
        </p:nvSpPr>
        <p:spPr>
          <a:xfrm>
            <a:off x="6948360" y="2852640"/>
            <a:ext cx="884520" cy="500040"/>
          </a:xfrm>
          <a:prstGeom prst="rect">
            <a:avLst/>
          </a:prstGeom>
          <a:solidFill>
            <a:srgbClr val="fff3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∙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(- 3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5076720" y="3141720"/>
            <a:ext cx="736560" cy="500040"/>
          </a:xfrm>
          <a:prstGeom prst="rect">
            <a:avLst/>
          </a:prstGeom>
          <a:solidFill>
            <a:srgbClr val="fff3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3995640" y="3141720"/>
            <a:ext cx="736560" cy="500040"/>
          </a:xfrm>
          <a:prstGeom prst="rect">
            <a:avLst/>
          </a:prstGeom>
          <a:solidFill>
            <a:srgbClr val="fff3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1763640" y="2924280"/>
            <a:ext cx="736560" cy="500040"/>
          </a:xfrm>
          <a:prstGeom prst="rect">
            <a:avLst/>
          </a:prstGeom>
          <a:solidFill>
            <a:srgbClr val="fff3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+ 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99"/>
                </a:solidFill>
                <a:latin typeface="Comic Sans MS"/>
              </a:rPr>
              <a:t>Заповніть ланцюж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539640" y="3141720"/>
            <a:ext cx="1032120" cy="1235160"/>
          </a:xfrm>
          <a:prstGeom prst="ellipse">
            <a:avLst/>
          </a:prstGeom>
          <a:solidFill>
            <a:srgbClr val="fff38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2700360" y="2238480"/>
            <a:ext cx="1031760" cy="1251000"/>
          </a:xfrm>
          <a:prstGeom prst="ellipse">
            <a:avLst/>
          </a:prstGeom>
          <a:solidFill>
            <a:srgbClr val="fff38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4370400" y="3652920"/>
            <a:ext cx="884160" cy="1071360"/>
          </a:xfrm>
          <a:prstGeom prst="ellipse">
            <a:avLst/>
          </a:prstGeom>
          <a:solidFill>
            <a:srgbClr val="fff38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5651640" y="2060640"/>
            <a:ext cx="884160" cy="1071360"/>
          </a:xfrm>
          <a:prstGeom prst="ellipse">
            <a:avLst/>
          </a:prstGeom>
          <a:solidFill>
            <a:srgbClr val="fff38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7648560" y="3429000"/>
            <a:ext cx="884160" cy="1071720"/>
          </a:xfrm>
          <a:prstGeom prst="ellipse">
            <a:avLst/>
          </a:prstGeom>
          <a:solidFill>
            <a:srgbClr val="fff38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0"/>
          <p:cNvSpPr/>
          <p:nvPr/>
        </p:nvSpPr>
        <p:spPr>
          <a:xfrm flipV="1">
            <a:off x="1571760" y="2952720"/>
            <a:ext cx="1128600" cy="71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3706920" y="3117960"/>
            <a:ext cx="736560" cy="71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12"/>
          <p:cNvSpPr/>
          <p:nvPr/>
        </p:nvSpPr>
        <p:spPr>
          <a:xfrm flipV="1">
            <a:off x="5205240" y="2952360"/>
            <a:ext cx="588960" cy="93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6531120" y="2774880"/>
            <a:ext cx="1179360" cy="892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755640" y="3500280"/>
            <a:ext cx="736560" cy="500400"/>
          </a:xfrm>
          <a:prstGeom prst="rect">
            <a:avLst/>
          </a:prstGeom>
          <a:solidFill>
            <a:srgbClr val="fff3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- 5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2843280" y="2565360"/>
            <a:ext cx="736560" cy="500040"/>
          </a:xfrm>
          <a:prstGeom prst="rect">
            <a:avLst/>
          </a:prstGeom>
          <a:solidFill>
            <a:srgbClr val="fff3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- 4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4441680" y="3933720"/>
            <a:ext cx="736920" cy="500040"/>
          </a:xfrm>
          <a:prstGeom prst="rect">
            <a:avLst/>
          </a:prstGeom>
          <a:solidFill>
            <a:srgbClr val="fff3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- 2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5724360" y="2349360"/>
            <a:ext cx="736920" cy="500040"/>
          </a:xfrm>
          <a:prstGeom prst="rect">
            <a:avLst/>
          </a:prstGeom>
          <a:solidFill>
            <a:srgbClr val="fff3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- 2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7740720" y="3716280"/>
            <a:ext cx="736560" cy="500040"/>
          </a:xfrm>
          <a:prstGeom prst="rect">
            <a:avLst/>
          </a:prstGeom>
          <a:solidFill>
            <a:srgbClr val="fff3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484000" y="260280"/>
            <a:ext cx="40388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uk-UA" sz="3200" spc="-1" strike="noStrike">
                <a:solidFill>
                  <a:srgbClr val="ff0000"/>
                </a:solidFill>
                <a:latin typeface="Comic Sans MS"/>
              </a:rPr>
              <a:t>2х + 7 = 1</a:t>
            </a:r>
            <a:r>
              <a:rPr b="0" lang="uk-UA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84360" y="981000"/>
            <a:ext cx="374472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ідомий спосіб розв’язання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2х + 7 = 1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2х = 1- 7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2х = - 6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х = - 6 : 2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х = - 3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2 ∙ (- 3) + 7 =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1 = 1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Відповідь: х = -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4284720" y="981000"/>
            <a:ext cx="417672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овий спосіб розв’язання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2х + 7 = 1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Додамо до обох частин число -7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2х + 7 +(-7) = 1 + (-7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2х = 1 + (-7)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х = -6 : 2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х = - 3.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2 ∙ (- 3) + 7 =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1 =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Відповідь: х = -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Comic Sans MS"/>
              </a:rPr>
              <a:t>Властивість №1:</a:t>
            </a: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Якщо який-небудь доданок перенести з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однієї частини рівняння до іншої, змінивш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при цьому його знак на протилежний, то отримаєм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рівняння, яке має ті самі корені, що й дане.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701080" y="2521800"/>
            <a:ext cx="36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2х + 6  =  - 4х + 2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349720" y="3067920"/>
            <a:ext cx="30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2х + 4х = 2 – 6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168720" y="360108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6х  = - 4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515760" y="4089960"/>
            <a:ext cx="20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х = - 4 : 6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9" name="Group 13"/>
          <p:cNvGrpSpPr/>
          <p:nvPr/>
        </p:nvGrpSpPr>
        <p:grpSpPr>
          <a:xfrm>
            <a:off x="3516840" y="4651920"/>
            <a:ext cx="1882080" cy="1068840"/>
            <a:chOff x="3516840" y="4651920"/>
            <a:chExt cx="1882080" cy="1068840"/>
          </a:xfrm>
        </p:grpSpPr>
        <p:sp>
          <p:nvSpPr>
            <p:cNvPr id="200" name="Rectangle 10"/>
            <p:cNvSpPr/>
            <p:nvPr/>
          </p:nvSpPr>
          <p:spPr>
            <a:xfrm>
              <a:off x="3516840" y="4807800"/>
              <a:ext cx="10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3200" spc="-1" strike="noStrike">
                  <a:solidFill>
                    <a:srgbClr val="000000"/>
                  </a:solidFill>
                  <a:latin typeface="Arial"/>
                </a:rPr>
                <a:t>х = -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11"/>
            <p:cNvSpPr/>
            <p:nvPr/>
          </p:nvSpPr>
          <p:spPr>
            <a:xfrm>
              <a:off x="4319640" y="4651920"/>
              <a:ext cx="1079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2" name="Group 17"/>
          <p:cNvGrpSpPr/>
          <p:nvPr/>
        </p:nvGrpSpPr>
        <p:grpSpPr>
          <a:xfrm>
            <a:off x="2413440" y="5588640"/>
            <a:ext cx="3762000" cy="1068840"/>
            <a:chOff x="2413440" y="5588640"/>
            <a:chExt cx="3762000" cy="1068840"/>
          </a:xfrm>
        </p:grpSpPr>
        <p:sp>
          <p:nvSpPr>
            <p:cNvPr id="203" name="Rectangle 12"/>
            <p:cNvSpPr/>
            <p:nvPr/>
          </p:nvSpPr>
          <p:spPr>
            <a:xfrm>
              <a:off x="2413440" y="5804640"/>
              <a:ext cx="214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800" spc="-1" strike="noStrike">
                  <a:solidFill>
                    <a:srgbClr val="000000"/>
                  </a:solidFill>
                  <a:latin typeface="Arial"/>
                </a:rPr>
                <a:t>Відповідь: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4" name="Group 14"/>
            <p:cNvGrpSpPr/>
            <p:nvPr/>
          </p:nvGrpSpPr>
          <p:grpSpPr>
            <a:xfrm>
              <a:off x="4293360" y="5588640"/>
              <a:ext cx="1882080" cy="1068840"/>
              <a:chOff x="4293360" y="5588640"/>
              <a:chExt cx="1882080" cy="1068840"/>
            </a:xfrm>
          </p:grpSpPr>
          <p:sp>
            <p:nvSpPr>
              <p:cNvPr id="205" name="Rectangle 15"/>
              <p:cNvSpPr/>
              <p:nvPr/>
            </p:nvSpPr>
            <p:spPr>
              <a:xfrm>
                <a:off x="4293360" y="5744520"/>
                <a:ext cx="10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3200" spc="-1" strike="noStrike">
                    <a:solidFill>
                      <a:srgbClr val="000000"/>
                    </a:solidFill>
                    <a:latin typeface="Arial"/>
                  </a:rPr>
                  <a:t>х = -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" name="Rectangle 16"/>
              <p:cNvSpPr/>
              <p:nvPr/>
            </p:nvSpPr>
            <p:spPr>
              <a:xfrm>
                <a:off x="5096160" y="5588640"/>
                <a:ext cx="10792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3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3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0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003640" y="29311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0,25 х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 5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4860000" y="3573360"/>
            <a:ext cx="33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4 ∙ 0,25 х = 4 ∙ 5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5911920" y="407592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2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4654080" y="4680720"/>
            <a:ext cx="32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Відповідь: х = 2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5003640" y="192060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Новий спосіб розв'язання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468360" y="126792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Відомий спосіб розв'язанн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2916360" y="4752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0,25 х </a:t>
            </a:r>
            <a:r>
              <a:rPr b="1" i="1" lang="uk-U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=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18"/>
          <p:cNvSpPr/>
          <p:nvPr/>
        </p:nvSpPr>
        <p:spPr>
          <a:xfrm>
            <a:off x="539640" y="2348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0,25 х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 5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19"/>
          <p:cNvSpPr/>
          <p:nvPr/>
        </p:nvSpPr>
        <p:spPr>
          <a:xfrm>
            <a:off x="611280" y="299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 5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: 0,25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20"/>
          <p:cNvSpPr/>
          <p:nvPr/>
        </p:nvSpPr>
        <p:spPr>
          <a:xfrm>
            <a:off x="755640" y="3643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2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21"/>
          <p:cNvSpPr/>
          <p:nvPr/>
        </p:nvSpPr>
        <p:spPr>
          <a:xfrm>
            <a:off x="621720" y="4220280"/>
            <a:ext cx="32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Відповідь: х = 2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Comic Sans MS"/>
              </a:rPr>
              <a:t>Властивість №2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Якщо обидві частини рівняння помножити (поділити) на одне й те  саме відмінне від нуля число, то отримаємо рівняння, яке має ті самі корені, що й дан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054320" y="334080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5х = - 30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643200" y="3933000"/>
            <a:ext cx="33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(5 : 5)х = - 30 : 5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4640760" y="4493160"/>
            <a:ext cx="14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х = - 6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669480" y="4996800"/>
            <a:ext cx="32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Відповідь: х = - 6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7:44:14Z</dcterms:created>
  <dc:creator>Юрий Левочкин</dc:creator>
  <dc:description/>
  <dc:language>en-US</dc:language>
  <cp:lastModifiedBy>User</cp:lastModifiedBy>
  <dcterms:modified xsi:type="dcterms:W3CDTF">2016-02-28T20:45:58Z</dcterms:modified>
  <cp:revision>7</cp:revision>
  <dc:subject/>
  <dc:title>РІВНЯННЯ</dc:title>
</cp:coreProperties>
</file>