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E9CA-96D8-48D8-BCF3-3425DDBE70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560B-0995-49D5-913B-AC9292E0AE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3275-43B9-4296-9A59-56A78E99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8FC68-60F6-4039-891B-44DC87B5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FE181-06F6-41E0-A033-FB7CBB75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234E-6920-40D1-8DA0-39C812A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CDFD-55CD-47E9-B324-AF943FD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05AF5-3CF8-4D73-B037-F8FD0F5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29E1-621A-4278-AD7A-CB7A8C2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419B-C0E6-49D1-B13A-5BF61785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9E4E-D9E0-4361-8510-803B700A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735B-214E-4EF3-B8BF-1C9DBACF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CD6BE-1B2B-42B6-A9AA-818EB21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E0F6A-AA90-4C59-9BEC-32519EF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9BB94-8A5B-464D-AC5D-085BE24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29535-28EC-4FA5-A273-2BEBDE1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754DA-7BBE-4460-B344-3FDD644C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D969E-1392-47E0-8E67-90349CD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8E747-785A-4531-8C0F-D4BF2A3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D43A3-EE8B-4EEA-A49B-EA7C588E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5834C-C1B2-418B-8845-3ECF087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B873B-A990-43D6-BC30-22D7B42C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F138F-AC63-48C8-9E22-614D7792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0D46F-A3B2-4EB0-A1E4-DE7ED82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A4CA7-165A-4D53-A0EB-D9FAC58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43E8-B611-42D9-89A2-E05A863B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2CEC-687C-44AB-9ECF-6A318F4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7CC73-31B5-417F-94AA-36F74A8D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51F0B-CD06-4067-981D-5CCC0FD8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D74D3-5E09-4AC8-A424-CDD92A2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E737F-7C59-4C3D-B6BB-2B3861F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ED02F-4728-4AE2-BF45-29C29B70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9BB-5783-4822-AE55-27B2BA8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A1CA8-05E3-413B-986E-F476849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B1F9B-9B9E-4A8D-A637-6220D8D3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73204-343A-4218-9C7C-3FDC2D9C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BC58-2ABF-4D48-A6FA-E6227606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3953-7FA2-4CD9-B877-35137982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314FD-9C33-4DE8-997C-BB4C66F5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B0432-AEA7-41AC-AAD5-BCE4A5F6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3CAC1-582C-441B-A5F5-D988632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8F59-A7FB-4AF3-A0DA-E3BE349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0FB55-AC4D-41B5-8139-05F6F3B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94B-8829-4F41-BF94-B9C54B7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583B2-E771-4A3F-AF8B-5A8673C8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5DCD-2D22-415E-ACD6-769CD2C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8BE71-9EA9-45AB-BC68-C7C2043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07B96-086E-4144-B117-5AC60E3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17F62-37FA-4337-8DD8-992361C0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AD2-ACA0-4C18-A529-7448D4E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0E3-0BA2-443D-8CA7-05058D98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5D7-1B8D-44C0-9AA0-102C2E5F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FD3-46A5-4D05-89F1-A580A95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0DE-72F3-4ECD-84D6-C85F0FB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221-57C2-4119-BE00-0F1BDEE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A81-02AA-428B-8B1C-D4F640A3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591-075E-4EB7-B8CA-958225C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199-0C54-44CB-9DF9-FF7D6A2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862-12BC-4384-BC2E-05D73DB0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5AB-A1D2-4B99-8FBA-F2CF4844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D19C-6B52-4FFB-AA9C-FC8BF4E5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ECD-F9D4-4F80-8A78-DA0383E4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18FE-1124-4D92-B616-4F2816A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AD92-F24E-4AA2-9221-DDE381B3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AB4-277B-4E10-B66A-54C6436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8FA-E31A-460F-8578-D28DE26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28A2-1D02-412C-9B5B-0BBA828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25BC-9B1E-4FA1-A482-8A2B138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748D-2B65-4302-A5CB-B8F7641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5F8A-9616-48F2-B2F5-DC57FD49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6652-DE18-48CF-96DF-A55B5A65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D5B0-6076-42E5-8963-F68C1710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6034-5FB5-4423-A8F7-EDB4CC24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A0BF-380D-4787-999E-EEC101E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BF6E-E1B5-4609-8676-D900E063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FE9B-5122-4E4A-A860-E26ECB3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3669-7B63-4734-8ECA-8778D17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52D6-B560-4CCE-B063-8DE100CF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B2B8-5862-495D-B073-2AEC4F9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2CD7-042F-4355-A15F-B9E5057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7489-110C-407D-9F52-13FF6E4D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C85C-9201-44D2-9B04-0D305816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5569-B971-4762-BD0A-C8AF3D2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32B1-F9A5-4A80-AFC7-AD48BCA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855F-E168-41AA-A3A0-4918C888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7AA3-9311-4EDF-A8DE-F41948ED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A6F2-1CA9-4A03-8D2A-A6773832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4954-C80C-4E61-AA4D-3A839645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7CF1-2D88-4341-A403-C7F739C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7122-6EB5-4A7F-A5E6-11A36E6A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88D8-9AE7-4FEF-891A-7B106D52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873B-8E0B-4285-A081-3CB52B1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94AAB-2C9D-400A-9CFB-9B1E4C46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4FEDF-6DD5-4AC9-9062-47464798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C5F8-5E01-42A4-A73F-04FA5153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65B2-917D-4A52-9481-112E897A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CADB-77EE-4E72-9750-FE3169E2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9D68-A56D-4D5B-A9C9-F72009C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D755-7F6B-454B-978E-76724F0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8BFB-C2C9-4412-8006-0B5401B3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DD50C-BF91-4944-A067-44CC6521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99645-F264-488F-8A95-C063ACE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AC033-7F81-45C1-AFD2-E58E793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69FE8-E731-491B-8E54-6252FE3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5D36-D7AD-4AA7-AA7B-DCA6753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4BFB-E554-4006-91D3-D7782F8F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AA5EF-CFDD-4504-BACB-BC85730E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24BAB-C2DF-432F-BFAC-AB2AE39A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DFC2-15DF-4C1B-96CF-4EC375EA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1738-D700-40FA-AE5D-0FBC4AAB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A384-47B8-4865-B2AB-C2B18419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941D-D00A-4271-8687-175AE26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BEA2-7997-43CD-94CD-BD573519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0E11-4EDA-4599-85B4-0C5A4517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2B621-0C35-4528-8273-0B5149E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49AB3-0BFE-4618-990B-9F5D13B2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90DD-C4FB-42C8-AFE4-30A690E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F170-97FC-43C0-A6A3-EFF49A2C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FFB4-9D03-40E5-B001-735FDC49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7935-42B4-4A78-A1BF-796E7513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0F8BD-C77A-41B0-A376-376FCE0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34F0-279C-4408-9316-0F731CF8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9062-01DF-4758-BAC6-832E2EE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15B6-60E9-4095-B7C6-0CC9D21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6AFFB-EA7B-4CB7-8940-DF128B6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0D67E-AEB9-4B65-8B1E-4145D92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34474-0CBC-400F-AF60-AF0951B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B5DC-BAFA-4701-AA8E-96F7FEF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867E-990B-435A-BD3C-713AB7F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6AA08-9A33-49B6-982C-65AC187F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9839C-F62C-47C1-8E7B-63943852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C260-4949-4B33-A3F8-102DB91B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A4A68-3674-4D75-B606-4E70BF7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3456-355A-4BFB-A955-2CDE3BF7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2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3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416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417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A648-0290-4E8F-9593-4B91E2371B1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462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463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6909-8B3E-4EAC-9636-B36BAAB4837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508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509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313-9546-4C78-A706-8FE13D3C9D6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45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46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ohen, Stephanie / Math Overview"/>
          <p:cNvPicPr/>
          <p:nvPr/>
        </p:nvPicPr>
        <p:blipFill>
          <a:blip r:embed="rId7"/>
          <a:stretch/>
        </p:blipFill>
        <p:spPr>
          <a:xfrm>
            <a:off x="0" y="3214800"/>
            <a:ext cx="5504040" cy="3643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3E8-563A-46DD-9876-14EF136E07F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92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93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DE3-5118-470B-94B9-AAC5068A836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140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141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1C64-99D1-437F-8490-9B973FA7276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186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187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535F-1DCE-4C99-A89E-D5CA5FF9611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232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233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431F-BB32-484D-985F-76EF141D54E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278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279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14E-9538-4AFF-86F4-85681365F93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324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325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8F2-A781-4E66-850A-CBEF546FA99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&amp;Icy;&amp;kcy;&amp;ocy;&amp;ncy;&amp;kcy;&amp;acy; &amp;kcy;&amp;vcy;&amp;acy;&amp;dcy;&amp;rcy;&amp;acy;&amp;tcy;, &amp;rcy;&amp;acy;&amp;zcy;&amp;mcy;&amp;iecy;&amp;rcy; 128x128 id5786 iconbird.com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&amp;Vcy;&amp;scy;&amp;iocy;_&amp;Dcy;&amp;lcy;&amp;YAcy;_&amp;ZHcy;&amp;zhcy; :: &amp;Dcy;&amp;ncy;&amp;iecy;&amp;vcy;&amp;ncy;&amp;icy;&amp;kcy;&amp;icy; :: &amp;Scy;&amp;tcy;&amp;acy;&amp;rcy;&amp;ycy;&amp;jcy; &amp;Ocy;&amp;scy;&amp;kcy;&amp;ocy;&amp;lcy;"/>
          <p:cNvPicPr/>
          <p:nvPr/>
        </p:nvPicPr>
        <p:blipFill>
          <a:blip r:embed="rId3"/>
          <a:stretch/>
        </p:blipFill>
        <p:spPr>
          <a:xfrm>
            <a:off x="-60480" y="-36360"/>
            <a:ext cx="9259920" cy="6980040"/>
          </a:xfrm>
          <a:prstGeom prst="rect">
            <a:avLst/>
          </a:prstGeom>
          <a:ln w="0">
            <a:noFill/>
          </a:ln>
        </p:spPr>
      </p:pic>
      <p:grpSp>
        <p:nvGrpSpPr>
          <p:cNvPr id="370" name="Скругленный прямоугольник 16"/>
          <p:cNvGrpSpPr/>
          <p:nvPr/>
        </p:nvGrpSpPr>
        <p:grpSpPr>
          <a:xfrm>
            <a:off x="268200" y="268200"/>
            <a:ext cx="8601120" cy="6315120"/>
            <a:chOff x="268200" y="268200"/>
            <a:chExt cx="8601120" cy="6315120"/>
          </a:xfrm>
        </p:grpSpPr>
        <p:pic>
          <p:nvPicPr>
            <p:cNvPr id="371" name="Скругленный 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268200" y="268200"/>
              <a:ext cx="86011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14360" y="414360"/>
              <a:ext cx="8315280" cy="60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Рисунок 17" descr="Math Symbol Clipart.gif"/>
          <p:cNvPicPr/>
          <p:nvPr/>
        </p:nvPicPr>
        <p:blipFill>
          <a:blip r:embed="rId5"/>
          <a:stretch/>
        </p:blipFill>
        <p:spPr>
          <a:xfrm rot="20662200">
            <a:off x="7738920" y="153720"/>
            <a:ext cx="1284480" cy="1066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Math Teacher Clipart - Viewing Gallery"/>
          <p:cNvPicPr/>
          <p:nvPr/>
        </p:nvPicPr>
        <p:blipFill>
          <a:blip r:embed="rId6"/>
          <a:stretch/>
        </p:blipFill>
        <p:spPr>
          <a:xfrm>
            <a:off x="7429680" y="5243400"/>
            <a:ext cx="1542960" cy="1614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8E3-35DE-4F56-A12A-BE572484279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extBox 3" descr=""/>
          <p:cNvPicPr/>
          <p:nvPr/>
        </p:nvPicPr>
        <p:blipFill>
          <a:blip r:embed="rId1"/>
          <a:stretch/>
        </p:blipFill>
        <p:spPr>
          <a:xfrm>
            <a:off x="1133640" y="1352520"/>
            <a:ext cx="73040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Прямоугольник 6" descr=""/>
          <p:cNvPicPr/>
          <p:nvPr/>
        </p:nvPicPr>
        <p:blipFill>
          <a:blip r:embed="rId1"/>
          <a:stretch/>
        </p:blipFill>
        <p:spPr>
          <a:xfrm>
            <a:off x="0" y="554040"/>
            <a:ext cx="9309240" cy="20797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7"/>
          <p:cNvSpPr/>
          <p:nvPr/>
        </p:nvSpPr>
        <p:spPr>
          <a:xfrm>
            <a:off x="1071720" y="2071800"/>
            <a:ext cx="242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66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uk-UA" sz="6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8"/>
          <p:cNvSpPr/>
          <p:nvPr/>
        </p:nvSpPr>
        <p:spPr>
          <a:xfrm>
            <a:off x="5214960" y="2071800"/>
            <a:ext cx="31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6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9"/>
          <p:cNvSpPr/>
          <p:nvPr/>
        </p:nvSpPr>
        <p:spPr>
          <a:xfrm>
            <a:off x="3602880" y="3857760"/>
            <a:ext cx="208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i="1" lang="en-US" sz="6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 =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71520" y="357120"/>
            <a:ext cx="5729400" cy="58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    </a:t>
            </a:r>
            <a:r>
              <a:rPr b="1" i="1" lang="uk-UA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Давним-давно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в </a:t>
            </a:r>
            <a:r>
              <a:rPr b="1" i="1" lang="uk-UA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Стародавні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    </a:t>
            </a:r>
            <a:r>
              <a:rPr b="1" i="1" lang="uk-UA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Греції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,  для того </a:t>
            </a:r>
            <a:r>
              <a:rPr b="1" i="1" lang="uk-UA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щоб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помнож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числа, люди  використовували камінчики для рахування. Вони малювали многокуготники, вибудовували їх сторони із каміння і підраховували  їх число. В результаті цього </a:t>
            </a:r>
            <a:r>
              <a:rPr b="1" i="1" lang="en-US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з</a:t>
            </a:r>
            <a:r>
              <a:rPr b="1" i="1" lang="en-US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’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явились  числа , які називаються квадратними і кубічними. Вони відіграють важливу роль  в математиці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За допомогою цих чисел можна  обчислити площу і об'єм  фігури, а також розв’язати практичні задачі на знаходження об‘єму води в басейні.  Давайт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660066"/>
                </a:solidFill>
                <a:latin typeface="Century Gothic"/>
                <a:ea typeface="Times New Roman"/>
              </a:rPr>
              <a:t>познайомимось з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8" descr=""/>
          <p:cNvPicPr/>
          <p:nvPr/>
        </p:nvPicPr>
        <p:blipFill>
          <a:blip r:embed="rId1"/>
          <a:srcRect l="7627" t="0" r="12257" b="0"/>
          <a:stretch/>
        </p:blipFill>
        <p:spPr>
          <a:xfrm>
            <a:off x="285840" y="500040"/>
            <a:ext cx="2976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바탕"/>
              </a:rPr>
              <a:t>a</a:t>
            </a:r>
            <a:r>
              <a:rPr b="1" i="1" lang="uk-UA" sz="5400" spc="-1" strike="noStrike" baseline="30000">
                <a:solidFill>
                  <a:srgbClr val="ff0000"/>
                </a:solidFill>
                <a:latin typeface="Calibri"/>
                <a:ea typeface="바탕"/>
              </a:rPr>
              <a:t>2 </a:t>
            </a:r>
            <a:r>
              <a:rPr b="1" i="1" lang="uk-UA" sz="5400" spc="-1" strike="noStrike">
                <a:solidFill>
                  <a:srgbClr val="ff0000"/>
                </a:solidFill>
                <a:latin typeface="Calibri"/>
                <a:ea typeface="바탕"/>
              </a:rPr>
              <a:t>=</a:t>
            </a: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바탕"/>
              </a:rPr>
              <a:t> a ∙ a</a:t>
            </a: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   </a:t>
            </a:r>
            <a:br>
              <a:rPr sz="5400"/>
            </a:b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br>
              <a:rPr sz="5400"/>
            </a:b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r>
              <a:rPr b="1" i="1" lang="uk-UA" sz="5400" spc="-1" strike="noStrike">
                <a:solidFill>
                  <a:srgbClr val="002060"/>
                </a:solidFill>
                <a:latin typeface="Calibri"/>
                <a:ea typeface="바탕"/>
              </a:rPr>
              <a:t>	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Calibri"/>
                <a:ea typeface="바탕"/>
              </a:rPr>
              <a:t> </a:t>
            </a:r>
            <a:r>
              <a:rPr b="1" i="1" lang="uk-UA" sz="5400" spc="-1" strike="noStrike">
                <a:solidFill>
                  <a:srgbClr val="ff0000"/>
                </a:solidFill>
                <a:latin typeface="Calibri"/>
                <a:ea typeface="바탕"/>
              </a:rPr>
              <a:t>	</a:t>
            </a:r>
            <a:r>
              <a:rPr b="1" i="1" lang="uk-UA" sz="5400" spc="-1" strike="noStrike">
                <a:solidFill>
                  <a:srgbClr val="ff0000"/>
                </a:solidFill>
                <a:latin typeface="Calibri"/>
                <a:ea typeface="바탕"/>
              </a:rPr>
              <a:t>	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Прямоугольник 2"/>
          <p:cNvSpPr/>
          <p:nvPr/>
        </p:nvSpPr>
        <p:spPr>
          <a:xfrm>
            <a:off x="2643120" y="179064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2060"/>
                </a:solidFill>
                <a:latin typeface="Times New Roman"/>
                <a:ea typeface="바탕"/>
              </a:rPr>
              <a:t>к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바탕"/>
              </a:rPr>
              <a:t>вадрат  числа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바탕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3"/>
          <p:cNvSpPr/>
          <p:nvPr/>
        </p:nvSpPr>
        <p:spPr>
          <a:xfrm>
            <a:off x="3687840" y="3005280"/>
            <a:ext cx="39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2</a:t>
            </a:r>
            <a:r>
              <a:rPr b="1" i="1" lang="uk-UA" sz="5400" spc="-1" strike="noStrike" baseline="30000">
                <a:solidFill>
                  <a:srgbClr val="055b0f"/>
                </a:solidFill>
                <a:latin typeface="Arial"/>
                <a:ea typeface="바탕"/>
              </a:rPr>
              <a:t>2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=</a:t>
            </a:r>
            <a:r>
              <a:rPr b="1" i="1" lang="en-US" sz="5400" spc="-1" strike="noStrike">
                <a:solidFill>
                  <a:srgbClr val="055b0f"/>
                </a:solidFill>
                <a:latin typeface="Arial"/>
                <a:ea typeface="바탕"/>
              </a:rPr>
              <a:t>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2</a:t>
            </a:r>
            <a:r>
              <a:rPr b="1" i="1" lang="en-US" sz="5400" spc="-1" strike="noStrike">
                <a:solidFill>
                  <a:srgbClr val="055b0f"/>
                </a:solidFill>
                <a:latin typeface="Arial"/>
                <a:ea typeface="바탕"/>
              </a:rPr>
              <a:t> ∙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2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4"/>
          <p:cNvSpPr/>
          <p:nvPr/>
        </p:nvSpPr>
        <p:spPr>
          <a:xfrm>
            <a:off x="687960" y="3790800"/>
            <a:ext cx="39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  <a:ea typeface="바탕"/>
              </a:rPr>
              <a:t>a</a:t>
            </a:r>
            <a:r>
              <a:rPr b="1" i="1" lang="uk-UA" sz="5400" spc="-1" strike="noStrike" baseline="30000">
                <a:solidFill>
                  <a:srgbClr val="ff0000"/>
                </a:solidFill>
                <a:latin typeface="Arial"/>
                <a:ea typeface="바탕"/>
              </a:rPr>
              <a:t>3 </a:t>
            </a:r>
            <a:r>
              <a:rPr b="1" i="1" lang="uk-UA" sz="5400" spc="-1" strike="noStrike">
                <a:solidFill>
                  <a:srgbClr val="ff0000"/>
                </a:solidFill>
                <a:latin typeface="Arial"/>
                <a:ea typeface="바탕"/>
              </a:rPr>
              <a:t>=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  <a:ea typeface="바탕"/>
              </a:rPr>
              <a:t> a ∙ a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바탕"/>
              </a:rPr>
              <a:t> ∙ 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  <a:ea typeface="바탕"/>
              </a:rPr>
              <a:t>a</a:t>
            </a:r>
            <a:r>
              <a:rPr b="1" i="1" lang="uk-UA" sz="54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5"/>
          <p:cNvSpPr/>
          <p:nvPr/>
        </p:nvSpPr>
        <p:spPr>
          <a:xfrm>
            <a:off x="3519360" y="4500720"/>
            <a:ext cx="39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2060"/>
                </a:solidFill>
                <a:latin typeface="Times New Roman"/>
                <a:ea typeface="바탕"/>
              </a:rPr>
              <a:t>куб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바탕"/>
              </a:rPr>
              <a:t>  числа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바탕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6"/>
          <p:cNvSpPr/>
          <p:nvPr/>
        </p:nvSpPr>
        <p:spPr>
          <a:xfrm>
            <a:off x="1785960" y="543384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4</a:t>
            </a:r>
            <a:r>
              <a:rPr b="1" i="1" lang="uk-UA" sz="5400" spc="-1" strike="noStrike" baseline="30000">
                <a:solidFill>
                  <a:srgbClr val="055b0f"/>
                </a:solidFill>
                <a:latin typeface="Arial"/>
                <a:ea typeface="바탕"/>
              </a:rPr>
              <a:t>3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=</a:t>
            </a:r>
            <a:r>
              <a:rPr b="1" i="1" lang="en-US" sz="5400" spc="-1" strike="noStrike">
                <a:solidFill>
                  <a:srgbClr val="055b0f"/>
                </a:solidFill>
                <a:latin typeface="Arial"/>
                <a:ea typeface="바탕"/>
              </a:rPr>
              <a:t>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4</a:t>
            </a:r>
            <a:r>
              <a:rPr b="1" i="1" lang="en-US" sz="5400" spc="-1" strike="noStrike">
                <a:solidFill>
                  <a:srgbClr val="055b0f"/>
                </a:solidFill>
                <a:latin typeface="Arial"/>
                <a:ea typeface="바탕"/>
              </a:rPr>
              <a:t> ∙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4</a:t>
            </a:r>
            <a:r>
              <a:rPr b="1" i="1" lang="ru-RU" sz="5400" spc="-1" strike="noStrike">
                <a:solidFill>
                  <a:srgbClr val="055b0f"/>
                </a:solidFill>
                <a:latin typeface="Arial"/>
                <a:ea typeface="바탕"/>
              </a:rPr>
              <a:t> ∙ </a:t>
            </a:r>
            <a:r>
              <a:rPr b="1" i="1" lang="uk-UA" sz="5400" spc="-1" strike="noStrike">
                <a:solidFill>
                  <a:srgbClr val="055b0f"/>
                </a:solidFill>
                <a:latin typeface="Arial"/>
                <a:ea typeface="바탕"/>
              </a:rPr>
              <a:t>4 = 6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572040" y="-214560"/>
            <a:ext cx="7772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928800" y="857160"/>
            <a:ext cx="72864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32f4d"/>
                </a:solidFill>
                <a:latin typeface="Calibri"/>
              </a:rPr>
              <a:t>Обчислити значення вираз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uk-UA" sz="4800" spc="-1" strike="noStrike" baseline="80000">
                <a:solidFill>
                  <a:srgbClr val="002060"/>
                </a:solidFill>
                <a:latin typeface="Calibri"/>
              </a:rPr>
              <a:t>4   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+ 2 · 13 </a:t>
            </a:r>
            <a:r>
              <a:rPr b="1" lang="uk-UA" sz="4800" spc="-1" strike="noStrike" baseline="80000">
                <a:solidFill>
                  <a:srgbClr val="002060"/>
                </a:solidFill>
                <a:latin typeface="Calibri"/>
              </a:rPr>
              <a:t>2</a:t>
            </a: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 – 8 : 4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= 81 + 2 · 169 – 8 : 4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= 81 + 338 – 2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= 41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5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571680" y="57168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32f4d"/>
                </a:solidFill>
                <a:latin typeface="Calibri"/>
              </a:rPr>
              <a:t>Обчислити значення вираз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(1+4)</a:t>
            </a:r>
            <a:r>
              <a:rPr b="1" lang="uk-UA" sz="4400" spc="-1" strike="noStrike" baseline="80000">
                <a:solidFill>
                  <a:srgbClr val="002060"/>
                </a:solidFill>
                <a:latin typeface="Calibri"/>
              </a:rPr>
              <a:t>2  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- 2</a:t>
            </a:r>
            <a:r>
              <a:rPr b="1" lang="uk-UA" sz="4400" spc="-1" strike="noStrike" baseline="80000">
                <a:solidFill>
                  <a:srgbClr val="002060"/>
                </a:solidFill>
                <a:latin typeface="Calibri"/>
              </a:rPr>
              <a:t>3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  =   5</a:t>
            </a:r>
            <a:r>
              <a:rPr b="1" lang="uk-UA" sz="4400" spc="-1" strike="noStrike" baseline="80000">
                <a:solidFill>
                  <a:srgbClr val="002060"/>
                </a:solidFill>
                <a:latin typeface="Calibri"/>
              </a:rPr>
              <a:t>2  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- 2</a:t>
            </a:r>
            <a:r>
              <a:rPr b="1" lang="uk-UA" sz="4400" spc="-1" strike="noStrike" baseline="80000">
                <a:solidFill>
                  <a:srgbClr val="002060"/>
                </a:solidFill>
                <a:latin typeface="Calibri"/>
              </a:rPr>
              <a:t>3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= 25 – 8 =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13840" y="1500120"/>
            <a:ext cx="8587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ьогодні на уроці я повторив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ьогодні на уроці я дізнався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ьогодні на уроці я навчився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и всі добре працювал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Знання міцні здобув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Тож скажу вам у кінці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- Діти, всі ви – МОЛОДЦІ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5760" y="1285920"/>
            <a:ext cx="89820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Девіз уро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Constantia"/>
                <a:ea typeface="Courier New"/>
              </a:rPr>
              <a:t>Працювати активн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Constantia"/>
                <a:ea typeface="Courier New"/>
              </a:rPr>
              <a:t>Творчо, старанн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Constantia"/>
                <a:ea typeface="Courier New"/>
              </a:rPr>
              <a:t>Щоб кожна хвилина уро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060"/>
                </a:solidFill>
                <a:latin typeface="Constantia"/>
                <a:ea typeface="Courier New"/>
              </a:rPr>
              <a:t>Не втратилась мар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428760" y="299880"/>
            <a:ext cx="72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Arial"/>
              </a:rPr>
              <a:t>Бліц - турні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428760" y="137736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Які дії першого ступеня ви знає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Які дії другого ступеня ви знає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Який порядок дій у виразах, що містять дії першого та другого ступе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428760" y="2998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Бліц - турн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357120" y="883440"/>
            <a:ext cx="8501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4. Запишіть у вигляді добутку су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) 7 + 7 + 7 +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) 3 + 3 + 3 + 3 +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)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+ а + а + а + а + а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5.Подайте у вигляді двох рівних множників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06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5 =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) 8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206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9 =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) 1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6. Подайте у вигляді добутку трьох рівних множник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206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8 =                               2) 12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) 1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3351600" y="112536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7 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5"/>
          <p:cNvSpPr/>
          <p:nvPr/>
        </p:nvSpPr>
        <p:spPr>
          <a:xfrm>
            <a:off x="3999240" y="162864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 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4640760" y="206064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·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"/>
          <p:cNvSpPr/>
          <p:nvPr/>
        </p:nvSpPr>
        <p:spPr>
          <a:xfrm>
            <a:off x="1622880" y="342900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5 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622520" y="3933720"/>
            <a:ext cx="7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7 ·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6231240" y="342900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9 ·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0"/>
          <p:cNvSpPr/>
          <p:nvPr/>
        </p:nvSpPr>
        <p:spPr>
          <a:xfrm>
            <a:off x="6305040" y="386064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0 ·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1337040" y="53006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 · 2 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5513760" y="5229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5 · 5 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2274480" y="602136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0 · 10 ·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5" descr="CRCTR148"/>
          <p:cNvPicPr/>
          <p:nvPr/>
        </p:nvPicPr>
        <p:blipFill>
          <a:blip r:embed="rId1"/>
          <a:stretch/>
        </p:blipFill>
        <p:spPr>
          <a:xfrm>
            <a:off x="6215040" y="1071720"/>
            <a:ext cx="2610000" cy="40957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3"/>
          <p:cNvSpPr/>
          <p:nvPr/>
        </p:nvSpPr>
        <p:spPr>
          <a:xfrm>
            <a:off x="539640" y="404640"/>
            <a:ext cx="5112000" cy="7192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0: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3924360" y="4508640"/>
            <a:ext cx="1655640" cy="576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684360" y="4508640"/>
            <a:ext cx="1655640" cy="576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2"/>
          <p:cNvSpPr/>
          <p:nvPr/>
        </p:nvSpPr>
        <p:spPr>
          <a:xfrm>
            <a:off x="611280" y="3141720"/>
            <a:ext cx="165564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3"/>
          <p:cNvSpPr/>
          <p:nvPr/>
        </p:nvSpPr>
        <p:spPr>
          <a:xfrm>
            <a:off x="611280" y="1844640"/>
            <a:ext cx="165564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4"/>
          <p:cNvSpPr/>
          <p:nvPr/>
        </p:nvSpPr>
        <p:spPr>
          <a:xfrm>
            <a:off x="3924360" y="1844640"/>
            <a:ext cx="165564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3924360" y="3141720"/>
            <a:ext cx="165564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7"/>
          <p:cNvSpPr/>
          <p:nvPr/>
        </p:nvSpPr>
        <p:spPr>
          <a:xfrm>
            <a:off x="1763640" y="5950080"/>
            <a:ext cx="2700360" cy="6760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8"/>
          <p:cNvSpPr/>
          <p:nvPr/>
        </p:nvSpPr>
        <p:spPr>
          <a:xfrm rot="10800000">
            <a:off x="1403280" y="83664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9"/>
          <p:cNvSpPr/>
          <p:nvPr/>
        </p:nvSpPr>
        <p:spPr>
          <a:xfrm rot="10800000">
            <a:off x="1835280" y="213372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0"/>
          <p:cNvSpPr/>
          <p:nvPr/>
        </p:nvSpPr>
        <p:spPr>
          <a:xfrm rot="10800000">
            <a:off x="1835280" y="350028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1"/>
          <p:cNvSpPr/>
          <p:nvPr/>
        </p:nvSpPr>
        <p:spPr>
          <a:xfrm rot="8002200">
            <a:off x="1963440" y="5100480"/>
            <a:ext cx="287640" cy="976320"/>
          </a:xfrm>
          <a:prstGeom prst="upArrow">
            <a:avLst>
              <a:gd name="adj1" fmla="val 50000"/>
              <a:gd name="adj2" fmla="val 848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2"/>
          <p:cNvSpPr/>
          <p:nvPr/>
        </p:nvSpPr>
        <p:spPr>
          <a:xfrm rot="10800000">
            <a:off x="4427640" y="83664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3"/>
          <p:cNvSpPr/>
          <p:nvPr/>
        </p:nvSpPr>
        <p:spPr>
          <a:xfrm rot="10800000">
            <a:off x="4067280" y="213372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4"/>
          <p:cNvSpPr/>
          <p:nvPr/>
        </p:nvSpPr>
        <p:spPr>
          <a:xfrm rot="10800000">
            <a:off x="4067280" y="350028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5"/>
          <p:cNvSpPr/>
          <p:nvPr/>
        </p:nvSpPr>
        <p:spPr>
          <a:xfrm rot="13516800">
            <a:off x="3836160" y="5100120"/>
            <a:ext cx="287640" cy="976320"/>
          </a:xfrm>
          <a:prstGeom prst="upArrow">
            <a:avLst>
              <a:gd name="adj1" fmla="val 50000"/>
              <a:gd name="adj2" fmla="val 848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611280" y="1125360"/>
            <a:ext cx="647640" cy="627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684360" y="2492280"/>
            <a:ext cx="647640" cy="627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9"/>
          <p:cNvSpPr/>
          <p:nvPr/>
        </p:nvSpPr>
        <p:spPr>
          <a:xfrm>
            <a:off x="684360" y="3860640"/>
            <a:ext cx="647640" cy="627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>
            <a:off x="3995640" y="476280"/>
            <a:ext cx="647640" cy="627120"/>
          </a:xfrm>
          <a:prstGeom prst="ellipse">
            <a:avLst/>
          </a:prstGeom>
          <a:solidFill>
            <a:srgbClr val="b9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41"/>
          <p:cNvSpPr/>
          <p:nvPr/>
        </p:nvSpPr>
        <p:spPr>
          <a:xfrm>
            <a:off x="4932360" y="1125360"/>
            <a:ext cx="647640" cy="627120"/>
          </a:xfrm>
          <a:prstGeom prst="ellipse">
            <a:avLst/>
          </a:prstGeom>
          <a:solidFill>
            <a:srgbClr val="fec2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42"/>
          <p:cNvSpPr/>
          <p:nvPr/>
        </p:nvSpPr>
        <p:spPr>
          <a:xfrm>
            <a:off x="4932360" y="2492280"/>
            <a:ext cx="647640" cy="627120"/>
          </a:xfrm>
          <a:prstGeom prst="ellipse">
            <a:avLst/>
          </a:prstGeom>
          <a:solidFill>
            <a:srgbClr val="fec2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43"/>
          <p:cNvSpPr/>
          <p:nvPr/>
        </p:nvSpPr>
        <p:spPr>
          <a:xfrm>
            <a:off x="4932360" y="3860640"/>
            <a:ext cx="647640" cy="627120"/>
          </a:xfrm>
          <a:prstGeom prst="ellipse">
            <a:avLst/>
          </a:prstGeom>
          <a:solidFill>
            <a:srgbClr val="fec2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44"/>
          <p:cNvSpPr/>
          <p:nvPr/>
        </p:nvSpPr>
        <p:spPr>
          <a:xfrm>
            <a:off x="2771640" y="5229360"/>
            <a:ext cx="648000" cy="626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713880" y="1143000"/>
            <a:ext cx="7858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Як  записати добуток кількох рівних множників простіш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Текст 6"/>
          <p:cNvSpPr/>
          <p:nvPr/>
        </p:nvSpPr>
        <p:spPr>
          <a:xfrm>
            <a:off x="285840" y="300024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3 · 3 · 3 · 3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Текст 6"/>
          <p:cNvSpPr/>
          <p:nvPr/>
        </p:nvSpPr>
        <p:spPr>
          <a:xfrm>
            <a:off x="285840" y="4286160"/>
            <a:ext cx="7572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5 · 5 · 5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Текст 6"/>
          <p:cNvSpPr/>
          <p:nvPr/>
        </p:nvSpPr>
        <p:spPr>
          <a:xfrm>
            <a:off x="5643720" y="3014640"/>
            <a:ext cx="1500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3 </a:t>
            </a:r>
            <a:r>
              <a:rPr b="1" lang="uk-UA" sz="5400" spc="-1" strike="noStrike" baseline="40000">
                <a:solidFill>
                  <a:srgbClr val="00206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Текст 6"/>
          <p:cNvSpPr/>
          <p:nvPr/>
        </p:nvSpPr>
        <p:spPr>
          <a:xfrm>
            <a:off x="5143680" y="4286160"/>
            <a:ext cx="1500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5 </a:t>
            </a:r>
            <a:r>
              <a:rPr b="1" lang="uk-UA" sz="5400" spc="-1" strike="noStrike" baseline="40000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Текст 6"/>
          <p:cNvSpPr/>
          <p:nvPr/>
        </p:nvSpPr>
        <p:spPr>
          <a:xfrm>
            <a:off x="3786120" y="3714840"/>
            <a:ext cx="1500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002060"/>
                </a:solidFill>
                <a:latin typeface="Calibri"/>
              </a:rPr>
              <a:t>3 </a:t>
            </a:r>
            <a:r>
              <a:rPr b="1" lang="uk-UA" sz="9600" spc="-1" strike="noStrike" baseline="40000">
                <a:solidFill>
                  <a:srgbClr val="00206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Стрелка вправо 11"/>
          <p:cNvSpPr/>
          <p:nvPr/>
        </p:nvSpPr>
        <p:spPr>
          <a:xfrm rot="9207600">
            <a:off x="2211120" y="4260960"/>
            <a:ext cx="1571400" cy="357120"/>
          </a:xfrm>
          <a:prstGeom prst="rightArrow">
            <a:avLst>
              <a:gd name="adj1" fmla="val 42241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2"/>
          <p:cNvSpPr/>
          <p:nvPr/>
        </p:nvSpPr>
        <p:spPr>
          <a:xfrm>
            <a:off x="3643200" y="3143160"/>
            <a:ext cx="1000080" cy="1214640"/>
          </a:xfrm>
          <a:prstGeom prst="ellipse">
            <a:avLst/>
          </a:prstGeom>
          <a:solidFill>
            <a:srgbClr val="4f81bd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3"/>
          <p:cNvSpPr/>
          <p:nvPr/>
        </p:nvSpPr>
        <p:spPr>
          <a:xfrm>
            <a:off x="571680" y="4857840"/>
            <a:ext cx="3071520" cy="100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libri"/>
              </a:rPr>
              <a:t>Основа</a:t>
            </a:r>
            <a:r>
              <a:rPr b="0" lang="uk-UA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4"/>
          <p:cNvSpPr/>
          <p:nvPr/>
        </p:nvSpPr>
        <p:spPr>
          <a:xfrm>
            <a:off x="4572000" y="3000240"/>
            <a:ext cx="785880" cy="857520"/>
          </a:xfrm>
          <a:prstGeom prst="ellipse">
            <a:avLst/>
          </a:prstGeom>
          <a:solidFill>
            <a:srgbClr val="c00000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трелка вправо 15"/>
          <p:cNvSpPr/>
          <p:nvPr/>
        </p:nvSpPr>
        <p:spPr>
          <a:xfrm rot="1168200">
            <a:off x="5371920" y="3610080"/>
            <a:ext cx="1571400" cy="357120"/>
          </a:xfrm>
          <a:prstGeom prst="rightArrow">
            <a:avLst>
              <a:gd name="adj1" fmla="val 42241"/>
              <a:gd name="adj2" fmla="val 5001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6"/>
          <p:cNvSpPr/>
          <p:nvPr/>
        </p:nvSpPr>
        <p:spPr>
          <a:xfrm>
            <a:off x="5715000" y="4143240"/>
            <a:ext cx="3071880" cy="11430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Показ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7"/>
          <p:cNvSpPr/>
          <p:nvPr/>
        </p:nvSpPr>
        <p:spPr>
          <a:xfrm>
            <a:off x="3286080" y="2571840"/>
            <a:ext cx="2286000" cy="2071440"/>
          </a:xfrm>
          <a:prstGeom prst="ellipse">
            <a:avLst/>
          </a:prstGeom>
          <a:solidFill>
            <a:srgbClr val="00b050">
              <a:alpha val="1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трелка вправо 18"/>
          <p:cNvSpPr/>
          <p:nvPr/>
        </p:nvSpPr>
        <p:spPr>
          <a:xfrm rot="15924600">
            <a:off x="3847320" y="1980000"/>
            <a:ext cx="720720" cy="357120"/>
          </a:xfrm>
          <a:prstGeom prst="rightArrow">
            <a:avLst>
              <a:gd name="adj1" fmla="val 42241"/>
              <a:gd name="adj2" fmla="val 50005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19"/>
          <p:cNvSpPr/>
          <p:nvPr/>
        </p:nvSpPr>
        <p:spPr>
          <a:xfrm>
            <a:off x="2071800" y="642960"/>
            <a:ext cx="4071960" cy="12142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Calibri"/>
              </a:rPr>
              <a:t>Степін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7772400" cy="28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6</a:t>
            </a:r>
            <a:r>
              <a:rPr b="1" lang="uk-UA" sz="5400" spc="-1" strike="noStrike" baseline="40000">
                <a:solidFill>
                  <a:srgbClr val="002060"/>
                </a:solidFill>
                <a:latin typeface="Calibri"/>
              </a:rPr>
              <a:t>4</a:t>
            </a: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 = 6 · 6 · 6 · 6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1" lang="uk-UA" sz="5400" spc="-1" strike="noStrike" baseline="40000">
                <a:solidFill>
                  <a:srgbClr val="002060"/>
                </a:solidFill>
                <a:latin typeface="Calibri"/>
              </a:rPr>
              <a:t>5</a:t>
            </a: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 = 7 · 7 · 7 · 7 · 7</a:t>
            </a:r>
            <a:br>
              <a:rPr sz="5400"/>
            </a:b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Прямоугольник 6" descr=""/>
          <p:cNvPicPr/>
          <p:nvPr/>
        </p:nvPicPr>
        <p:blipFill>
          <a:blip r:embed="rId1"/>
          <a:stretch/>
        </p:blipFill>
        <p:spPr>
          <a:xfrm>
            <a:off x="208080" y="596880"/>
            <a:ext cx="8234280" cy="358452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6"/>
              <p:cNvSpPr txBox="1"/>
              <p:nvPr/>
            </p:nvSpPr>
            <p:spPr>
              <a:xfrm>
                <a:off x="1500120" y="4143240"/>
                <a:ext cx="5726160" cy="22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groupChr>
                      </m:e>
                      <m:lim>
                        <m:r>
                          <m:t xml:space="preserve">п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ів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п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0:52:57Z</dcterms:created>
  <dc:creator>HP</dc:creator>
  <dc:description/>
  <dc:language>en-US</dc:language>
  <cp:lastModifiedBy>Shool</cp:lastModifiedBy>
  <dcterms:modified xsi:type="dcterms:W3CDTF">2015-12-05T04:35:34Z</dcterms:modified>
  <cp:revision>57</cp:revision>
  <dc:subject/>
  <dc:title>Слайд 1</dc:title>
</cp:coreProperties>
</file>